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1210-049A-4D3E-8B36-B8C316CC13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1087-F694-4BF5-976C-E87287734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/J=IB, F= Immer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6617-DF0C-4D34-A221-0121B2E1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F861-4403-49E4-8B91-511BBA8B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16D7-F071-4A80-B11E-7698CDD9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8BDF-66E0-4ECC-8B97-3E97A4F75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8074-DCEA-49F1-B9D7-D2590AF2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6CA4-1C25-4A8F-A810-7F1DBCAD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611D-FDC0-434E-9B4D-C93BA0D5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2371-DBDF-4FEB-8FED-C65CDE66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952C-D39C-4791-9A41-F5F27C28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60FB-B2C6-463F-8289-6E97F659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6BE5-6AD9-4A48-B9A7-8DEBC121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CD70-7432-44F0-9244-EEB6CB16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03B7-2962-4B43-9E67-AD71F3EE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CFB2-AA24-4936-92AB-26226F90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D890-8085-4B38-87D1-00441A60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0F6B-F726-4B46-970C-FB6DDE94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FB12-D3B9-496B-B426-5CC26897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B1D5-A064-491A-9888-0CF9E063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E6C4-A6EB-49D1-8A5B-0043764F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9634-F208-4705-8EE7-1B27E69C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04C4-DD7E-4F5A-8A97-29AA8AFC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1510-EFF7-4C1C-8082-60C15FD3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B614-27AE-42F6-8ECD-14B979BA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3E79-7746-4799-936A-AE9EBF70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495A-D728-429A-8B9E-937EFB0A52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D33B-2B81-4004-B772-730E49B8D8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ourse Selection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2016-201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(IB)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do you need for you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ntario Diploma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 credits in English (1 credit per grad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 credits in Mathematics (1 credit in Grade 11 or 12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 credits in Sci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Canadian Histo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Canadian Geograph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the Ar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Health and Physical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credit in French as a Second Langu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0.5 credit in Career Stud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0.5 credit in Civ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do you need for you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ntario Diploma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oup 1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additional credit in English, or French as a Second Language, or a Native language, or a Classical or an International language, or Social Sciences and the Humanities, or Canadian and World Studies, or Guidance and Career Education, or Cooperative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oup 2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additional credit in Health and Physical Education, or the Arts, or Business Studies, or French as a Second Language, or Cooperative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oup 3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additional credit in Science (Grade 11 or 12), or Technological Education, or French as a Second Language, or Computer Studies, or Cooperative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kplace? Complete an apprenticeship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llege? University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k/travel? Part-time studies/work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ap year to upgrad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ider your strengths and interests when making a decis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uct some research to decide on option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COLLEG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Earn a diploma, applied degree, collaborative progr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requisites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SSD, ENG4C, and others depending on the specific progra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rtfolios, Program tests (Math, Language, HOAE), and/or interviews are required for certain progra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plied degree programs and collaborative programs generally have university requirem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iculation agreements with universities – opportunity to continue from college into degree progra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 –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re are you go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UNIVERSIT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Earn a Bachelor’s Degre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BSc, BCom, B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requisites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SS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 4U or 4M courses (some schools maximum of two 4M cours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G4U and specific program requirem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inimum cut-off averages in specific courses for specific progra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rtfolios, test results, and/or interviews are required for certain progra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elds of Stud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niversit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457200" y="1995480"/>
            <a:ext cx="822960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925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13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7" name="Object 6"/>
          <p:cNvGraphicFramePr/>
          <p:nvPr/>
        </p:nvGraphicFramePr>
        <p:xfrm>
          <a:off x="1638360" y="228600"/>
          <a:ext cx="6075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228600"/>
                    <a:ext cx="6075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ww.ontariocolleges.c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ww.electronicinfo.c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B Requir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must take 6 IB cour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 1: Language and Litera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 2: Language Acquis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 3: Individuals and Societ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 4: Sci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 5: Mathemat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6: Arts or Ele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minimum of three at the HL (may be up to 4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phant in the Roo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am thinking of leaving IB…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sider all avenues available for you to find succes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nd the best fit for your academic and personal nee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eak openly with your parents and Guidance about your concer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D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You must take the Theory of Knowledge course (HZT4UE) (Grade 11-IB1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must complete C.A.S. requirement (Creative/Active/Service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must complete an Extended Essay and TOK pap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L or S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y programs are taught at the Higher Level (H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am can be written at the Standard Level (SL) – Maximum 2 SL exams in IB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cision on level is finalized in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ctober of IB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hen you register for exa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roup 1: Language and Literatu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28600" y="1447920"/>
          <a:ext cx="8763120" cy="419076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752480"/>
                <a:gridCol w="1752480"/>
                <a:gridCol w="1752840"/>
              </a:tblGrid>
              <a:tr h="1396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glish A: Standard Level or Higher Level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G1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G2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G3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G4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roup 2: Language Acquisition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52280" y="990720"/>
          <a:ext cx="8458200" cy="1657080"/>
        </p:xfrm>
        <a:graphic>
          <a:graphicData uri="http://schemas.openxmlformats.org/drawingml/2006/table">
            <a:tbl>
              <a:tblPr/>
              <a:tblGrid>
                <a:gridCol w="1690920"/>
                <a:gridCol w="1357200"/>
                <a:gridCol w="1447920"/>
                <a:gridCol w="1676160"/>
                <a:gridCol w="2286000"/>
              </a:tblGrid>
              <a:tr h="41436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anish B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B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B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DU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must be SL exam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WSDU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or H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152280" y="4648320"/>
          <a:ext cx="8534520" cy="193968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69768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ench A:  Standard Level or Higher Level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*Students will be given the opportunity to write French B H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1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2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3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F4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52280" y="2743200"/>
          <a:ext cx="8534520" cy="171468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9500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ench B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1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2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3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SF4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oup 3: Individuals and Societi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80880" y="1127160"/>
          <a:ext cx="8229600" cy="3125880"/>
        </p:xfrm>
        <a:graphic>
          <a:graphicData uri="http://schemas.openxmlformats.org/drawingml/2006/table">
            <a:tbl>
              <a:tblPr/>
              <a:tblGrid>
                <a:gridCol w="1644840"/>
                <a:gridCol w="1646280"/>
                <a:gridCol w="1647720"/>
                <a:gridCol w="1646280"/>
                <a:gridCol w="1644480"/>
              </a:tblGrid>
              <a:tr h="36648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eography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C1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F3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W4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or HL exam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C1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F3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GW4U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68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dents can move the grade 11 and 12 course into grades 10 and 11.  IF the student chooses this option, the exam will be written in grade 11 and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s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be a SL exam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52280" y="4495680"/>
          <a:ext cx="8534520" cy="170028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61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story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/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C2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N4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Y4U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or H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111"/>
          <p:cNvSpPr/>
          <p:nvPr/>
        </p:nvSpPr>
        <p:spPr>
          <a:xfrm>
            <a:off x="378360" y="6324480"/>
            <a:ext cx="45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</a:rPr>
              <a:t>Canadian World Studies and Human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roup 3: Individuals and Societi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04920" y="1447920"/>
          <a:ext cx="8534160" cy="1920600"/>
        </p:xfrm>
        <a:graphic>
          <a:graphicData uri="http://schemas.openxmlformats.org/drawingml/2006/table">
            <a:tbl>
              <a:tblPr/>
              <a:tblGrid>
                <a:gridCol w="1706400"/>
                <a:gridCol w="1708200"/>
                <a:gridCol w="1704960"/>
                <a:gridCol w="1708200"/>
                <a:gridCol w="1706400"/>
              </a:tblGrid>
              <a:tr h="6397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ation Technology in a Global Society (ITGS):  Standard Level ON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mmende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TIJ1O or TGJ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2O or ICS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3M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roup 4: Scienc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52280" y="990720"/>
          <a:ext cx="8458200" cy="162216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436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iology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DE/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DE/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BI3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BI4UE (SL or H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152280" y="4648320"/>
          <a:ext cx="8534520" cy="161136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61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ysics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DE/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DE/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H3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H4UE (SL or H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52280" y="2743200"/>
          <a:ext cx="8534520" cy="177480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9500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emistry:  Standard Level or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3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DE/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DE/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3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H4U1/2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or H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oup 4: Sci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04920" y="1143000"/>
          <a:ext cx="8534160" cy="1920960"/>
        </p:xfrm>
        <a:graphic>
          <a:graphicData uri="http://schemas.openxmlformats.org/drawingml/2006/table">
            <a:tbl>
              <a:tblPr/>
              <a:tblGrid>
                <a:gridCol w="1706400"/>
                <a:gridCol w="1708200"/>
                <a:gridCol w="1704960"/>
                <a:gridCol w="1708200"/>
                <a:gridCol w="1706400"/>
              </a:tblGrid>
              <a:tr h="3661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ports and Exercise Science:  Standard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1DE/J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NC2DE/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y grade 11 Science (preferably Biolog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SK4U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oup 5: Mathema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52280" y="990720"/>
          <a:ext cx="8458200" cy="190188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692360"/>
                <a:gridCol w="1692360"/>
                <a:gridCol w="1690560"/>
              </a:tblGrid>
              <a:tr h="41436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 Studies:  Standard Leve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1D or MPM1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2D or MPM2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R3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*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udents may take MDM4U, MHF4U, MCV4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52280" y="4943520"/>
          <a:ext cx="8534520" cy="161136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61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ematics: 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1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2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HF4U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V4U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H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52280" y="3048120"/>
          <a:ext cx="8534520" cy="171432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9500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hematics:  Standard Leve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3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1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M2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HF4U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CV4U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oup 6: Ar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52280" y="990720"/>
          <a:ext cx="8458200" cy="1749240"/>
        </p:xfrm>
        <a:graphic>
          <a:graphicData uri="http://schemas.openxmlformats.org/drawingml/2006/table">
            <a:tbl>
              <a:tblPr/>
              <a:tblGrid>
                <a:gridCol w="1690920"/>
                <a:gridCol w="1692000"/>
                <a:gridCol w="1265400"/>
                <a:gridCol w="2119320"/>
                <a:gridCol w="1690560"/>
              </a:tblGrid>
              <a:tr h="4111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sic:  Standard Leve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3ME and AMR3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U4ME and AMR4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152280" y="4943520"/>
          <a:ext cx="8534520" cy="1611360"/>
        </p:xfrm>
        <a:graphic>
          <a:graphicData uri="http://schemas.openxmlformats.org/drawingml/2006/table">
            <a:tbl>
              <a:tblPr/>
              <a:tblGrid>
                <a:gridCol w="1706760"/>
                <a:gridCol w="1708200"/>
                <a:gridCol w="1704960"/>
                <a:gridCol w="1708200"/>
                <a:gridCol w="1706400"/>
              </a:tblGrid>
              <a:tr h="3661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sual Arts:  Higher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3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4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WM4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H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52280" y="2933640"/>
          <a:ext cx="8534520" cy="171468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8200"/>
                <a:gridCol w="1706760"/>
                <a:gridCol w="1706400"/>
              </a:tblGrid>
              <a:tr h="49500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sual Arts:  Standard Leve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1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3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I4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derstanding your Credit Counseling Summary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sonal In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unity Involv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tario Literacy T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st cour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urrent cour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duation criter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oup 6: Ar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04920" y="1143000"/>
          <a:ext cx="8534160" cy="1611360"/>
        </p:xfrm>
        <a:graphic>
          <a:graphicData uri="http://schemas.openxmlformats.org/drawingml/2006/table">
            <a:tbl>
              <a:tblPr/>
              <a:tblGrid>
                <a:gridCol w="1706400"/>
                <a:gridCol w="1708200"/>
                <a:gridCol w="1704960"/>
                <a:gridCol w="1708200"/>
                <a:gridCol w="1706400"/>
              </a:tblGrid>
              <a:tr h="36612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lm:  Standard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ade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rse Code and Prerequis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ommend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J1O or TGJ1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2O or ICS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3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J4M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SL exa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Text Box 26"/>
          <p:cNvSpPr/>
          <p:nvPr/>
        </p:nvSpPr>
        <p:spPr>
          <a:xfrm>
            <a:off x="610560" y="3308400"/>
            <a:ext cx="68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TE:  students may select a second group 2 or 3 or 4 subjec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substitute for a Group 6:  Art cours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r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ulpt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us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usical Theat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ocal Jaz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nadian World Stud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gional Geograph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ligious Stud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thropology, Sociology&amp; Psycholo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boriginal Beliefs, Values &amp; Aspira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nadian La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iolo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emist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hysic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arth and Space Scie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hysical Educ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hys-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tne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utdoor Educ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chnolog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puter Stud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Yearboo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unication Technolo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ign Technolo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sin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usiness Marke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operative Educ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great opportunity for experiential learn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y out a job and see how it feel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periods every second day in the afternoon (COP3PD*) – 2 credi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periods every afternoon (COP4PD*) –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 credi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*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Under Guidance/Career Ed. in Career Cruis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HSM – Arts and Culture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Digital Medi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52280" y="190512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ludes a bundle of major and other required credi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ertification and in-depth training in a chosen employment sec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ken in grade 11 and grade 1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pprenticeship, College, University, and Workplace pathways avail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ccessful completion leads to a Red Seal on the OSSD plus a program record transcrip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lan your future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HSM – Arts and Culture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Digital Medi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990720" y="1752480"/>
          <a:ext cx="6933960" cy="47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6933960" cy="47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Your Option She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a contract for what you want to take next yea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ease research your college and university requiremen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ease ask and consider the advice of your teache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 aware of prerequisite cours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 an appointment with your guidance counselor to discuss optio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will try to place you in all of your requested cours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we can not, we will contact you with alternate opportunities or use your alternate cho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Your Option Sheet –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reer Cruis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Your Option Sheet – 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Career Cruising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0" name="Object 4"/>
          <p:cNvGraphicFramePr/>
          <p:nvPr/>
        </p:nvGraphicFramePr>
        <p:xfrm>
          <a:off x="609480" y="914400"/>
          <a:ext cx="7925040" cy="57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14400"/>
                    <a:ext cx="792504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Your Option Sheet – 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Career Cruising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685800" y="990720"/>
          <a:ext cx="7696080" cy="56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0720"/>
                    <a:ext cx="7696080" cy="56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ww.colonelby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ease see IB course guide online at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ibcb.ca/ibcourseguide20142015.pdf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Personal Information, Community Involvement, Ont. Literacy Test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87631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er Schoo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gistration will begin on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y 1s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gistration can be completed online through Career Cruising.*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you are taking a summer school course, identify the course in the space provid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-up and Reach Ahead optio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*Course Selection:  Note on your Course Selection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print ou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your intention to take summer school.  This is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 official summer school registr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 an appointment with guid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earch your option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cuss recommended course levels with teach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ll out a planning shee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derstand your personal balanc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 will I achieve the strongest success BIG PICTUR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cuss options with paren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se decisions are about you, so do not give up on the opportunity to speak up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urse Selection Due Dat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hursday, February 18</a:t>
            </a:r>
            <a:r>
              <a:rPr b="1" lang="en-US" sz="3200" spc="-1" strike="noStrike" u="sng" baseline="30000">
                <a:solidFill>
                  <a:srgbClr val="ffffff"/>
                </a:solidFill>
                <a:uFillTx/>
                <a:latin typeface="Verdan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bmit to classroom teacher for this present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Geography – grade 9; History – grade 10; TOK – IB1/grade 11; English – grade 11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Past / Completed Courses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6868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ccecff"/>
                </a:solidFill>
                <a:latin typeface="Arial"/>
              </a:rPr>
              <a:t>Current Courses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534520" cy="2625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533520" y="4876920"/>
            <a:ext cx="815328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redit Counselling Summary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ccecff"/>
                </a:solidFill>
                <a:latin typeface="Arial"/>
              </a:rPr>
              <a:t>Graduation Criteria</a:t>
            </a:r>
            <a:endParaRPr b="0" lang="en-US" sz="4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99172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o read a co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rst three letters are the subjec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G  = Englis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VI   = Visual Ar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BI    = Biolo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# Indicates ye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 = 9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 = 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 = 1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  = 1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ding the Cod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G2DE= Grade 10 English Academic, I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NC 2DJ = Grade 10 Science, IB, Immer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BI3UE = Grade 11 Biology I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CR 3UE = Grade 11 Math Studies, I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GJ3M  = Grade 11  Communication Tech College/Univers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MI3C = Grade 11 Marketing Colle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F3O = Grade 11 Fitness  Op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0T14:22:03Z</dcterms:created>
  <dc:creator>C30185</dc:creator>
  <dc:description/>
  <dc:language>en-US</dc:language>
  <cp:lastModifiedBy>Jill Badgery</cp:lastModifiedBy>
  <dcterms:modified xsi:type="dcterms:W3CDTF">2016-02-09T14:15:39Z</dcterms:modified>
  <cp:revision>83</cp:revision>
  <dc:subject/>
  <dc:title>Option sheets 2014-2015</dc:title>
</cp:coreProperties>
</file>